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916B4-4B3D-4035-BCAF-F44DD17B919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6F0F1-0DAB-4CA4-A192-24C88C4CCA3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21463-D67B-42CD-B258-7059060D31E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85C23-4FB8-4B2E-9BD9-F3C6EDD2D62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1D035-AEC3-402D-A239-04F759A7A46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93F81-05F0-4031-948A-4DB8544D061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BB8EB-5F57-43E7-A2FC-97EB8D3240F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17BE3-3C92-4C28-A89C-9C0BD33436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7C093-B82A-441F-B272-3A9CF11D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5B8DA-4D80-4374-9111-1C6EDA04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70114-1EE8-4744-ACF2-E833E8B511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1D381-9E49-4A11-BD4F-3159C94915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6366E-8CD9-47C7-B895-AC14541F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F87CD-6C3F-4A37-8997-A5C50042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408F9-6A45-4807-9C03-FEDD53A9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6AC12-6B3C-4F14-9D8C-C21F08B4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C5B3C-4986-4E2E-B7B1-2920849B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78C0B-AE83-4DE2-8D46-96177A2F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D725C-38A8-4B56-8D25-42A61C64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B44BC-1A58-4221-8A92-F803BF6F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0403F-78C8-4EA8-83B1-BD0E7644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67D77-4831-4925-A93D-94A78CE6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D31FF-C7CA-43FA-B662-078FF339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30034-47F4-41E4-998F-955CF3BA26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1D5D5-E35E-443B-9E8F-BB755F2D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309B6-5058-4D0E-A60A-E2CB42FA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BF60A-65AD-49A3-829E-11114A38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8D00-AAE1-4F79-8152-EADCCCDF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804FC-9222-418C-83F4-A136A930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3C7F6-DD8A-4044-9775-27F9BD37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9868-301E-4702-BF6B-2D07A0AA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  <a:ea typeface="Segoe UI"/>
              </a:rPr>
              <a:t>17/10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87E0F-4B5B-4679-8860-532AFAE8747E}" type="slidenum">
              <a:rPr b="0" lang="pt-BR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  <a:ea typeface="Segoe UI"/>
              </a:rPr>
              <a:t>17/10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E6A80-8F0A-4AAD-9498-E3CEBFA9E429}" type="slidenum">
              <a:rPr b="0" lang="pt-BR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357120" y="1357200"/>
            <a:ext cx="860256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r>
              <a:rPr b="1" lang="pt-BR" sz="3600" spc="-1" strike="noStrike">
                <a:solidFill>
                  <a:srgbClr val="191966"/>
                </a:solidFill>
                <a:latin typeface="Arial Black"/>
              </a:rPr>
              <a:t>Revisão dos Benefícios por Incapacidade de Longa Duraçã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  <a:ea typeface="Arial"/>
              </a:rPr>
              <a:t>Resultado do PRBI, com comparação entre benefícios por Incapacidade cessados x reativados por decisão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500040" y="1643040"/>
            <a:ext cx="8143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2667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Auxílio-doen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Total de benefícios mantidos há mais de dois anos sem perícia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563.7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Perícias realizadas até 16/10/2018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461.9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Perícias realizadas em 2016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22.8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Perícias realizadas em 2017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229.0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Perícias realizadas em 2018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210.0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Conclu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Benefícios convertidos/mantidos/reabilitação profissional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104.264 (2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Cessados com realização de perícia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357.695 (7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Cessados por não atendimento à convocação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54.5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Benefícios cessados (por não atendimento à convocação ou após realização de perícia)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412.2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1280" y="669960"/>
            <a:ext cx="9001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Revisão dos Benefícios por Incapacida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resultados das perícias realizadas até 16/10/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142920" y="1643040"/>
            <a:ext cx="88581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Aposentadoria por inval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Total de benefícios mantidos há mais de dois anos sem perícia (em 06/01/2017 – MP 767/2017)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1.175.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Lei nº 13.457: Expurgo de aposentadoria por invalidez (segurado com idade maior ou igual a 55 anos de idade e 15 anos de benefício, até 31/12/2018)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369.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Total de benefícios mantidos há mais de dois anos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805.7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Perícias realizadas até 16/10/2018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645.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Conclu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 </a:t>
            </a: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Benefícios cessados com realização de perícia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187.590 (2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 </a:t>
            </a: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Benefícios mantidos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457.534  (7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Cessados por não atendimento à convocação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19.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Benefícios cessados (por não atendimento à convocação ou após realização de perícia)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206.7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1280" y="669960"/>
            <a:ext cx="9001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Revisão dos Benefícios por Incapacida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resultados das perícias realizadas até 28/08/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500040" y="1285920"/>
            <a:ext cx="81439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1280" y="669960"/>
            <a:ext cx="9001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Índice de reforma das decisões administrativas pelo Poder Judiciário dos benefícios revisados pelo PR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2411280" y="1482840"/>
            <a:ext cx="4104000" cy="4892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9200" y="6191280"/>
            <a:ext cx="8920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191966"/>
                </a:solidFill>
                <a:latin typeface="Arial"/>
              </a:rPr>
              <a:t>Fonte: Coordenação-Geral de Gestão da Informação e Controle de Benefícios. Departamento de Benefícios Assistencia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191966"/>
                </a:solidFill>
                <a:latin typeface="Arial"/>
              </a:rPr>
              <a:t>e Previdenciários. Secretaria Nacional de Assistência Social – SNAS. Ministério do Desenvolvimento Social – MDS.</a:t>
            </a: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767640" y="5516640"/>
            <a:ext cx="22287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*Base de dados: benefício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cessados até 12/08/2018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00040" y="1285920"/>
            <a:ext cx="81439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1280" y="669960"/>
            <a:ext cx="90014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Índice de reforma das decisões administrativas pelo Poder Judiciário de todos os benefícios indeferidos pelo IN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00040" y="5832360"/>
            <a:ext cx="8564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191966"/>
                </a:solidFill>
                <a:latin typeface="Arial"/>
              </a:rPr>
              <a:t>Fonte: Plano de ação/Coordenação-Geral de Planejamento e Gestão Estratégica/IN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500040" y="2139840"/>
            <a:ext cx="8086680" cy="3619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4"/>
          <a:stretch/>
        </p:blipFill>
        <p:spPr>
          <a:xfrm>
            <a:off x="144360" y="2496960"/>
            <a:ext cx="327240" cy="30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285840" y="1071720"/>
            <a:ext cx="85723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Calibri"/>
              </a:rPr>
              <a:t>Obriga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Dra Karina Braido Santurbano de Teive e Arg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Diretora de Saúde do Trabalhado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DIRSAT – IN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 u="sng">
                <a:solidFill>
                  <a:srgbClr val="003366"/>
                </a:solidFill>
                <a:uFillTx/>
                <a:latin typeface="Calibri"/>
              </a:rPr>
              <a:t>dirsat@inss.gov.b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4:10:45Z</dcterms:created>
  <dc:creator>inss</dc:creator>
  <dc:description/>
  <dc:language>en-US</dc:language>
  <cp:lastModifiedBy>Silvana do Socorro Machado Rodrigues - MPS</cp:lastModifiedBy>
  <cp:lastPrinted>2018-10-17T21:10:33Z</cp:lastPrinted>
  <dcterms:modified xsi:type="dcterms:W3CDTF">2018-10-17T21:40:15Z</dcterms:modified>
  <cp:revision>6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Apresentação na tela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7</vt:r8>
  </property>
</Properties>
</file>